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C1264-D359-435A-BA57-1C4B739192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12186-3BB6-44CD-9C01-37335C07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ABFE2-AA8F-4EDD-B6A8-C4EECE1B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877C8-F240-43DC-B618-7B739ED973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F6ED9-2CB1-4A6F-BB73-45188977D1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649DA-4AF7-4BC9-AE66-9BB2BC1F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29EBB-B817-42AA-AD80-356BD7A1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3654C-C7CF-4085-9961-DD2F2247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4CE17-B64C-4655-8C2B-5D6579C0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6BA77-CE7B-40FA-BF2D-84CC3DD1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7E49B-95BF-4A15-A939-9ECD39B0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EDAF9-E824-4B20-9611-A1FC8F98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B6C9D-4358-4AFE-9BA9-EA04FA93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87376-62DE-4A8C-960F-8F16F6CC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72082-75AD-4C72-9344-1A7DA22E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16069-F532-4BBC-B09A-50F99C26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34539-E51F-4741-A5E7-DF121F85CC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C051B-D673-444A-8D25-CE7C0DF9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89527-D996-4F9F-AAFE-A9F5C644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E1205-0FA8-496A-9BFE-B24F074B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3D8EC-DB91-42BA-A21C-670AD44E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DB5B0-A807-4036-BEDA-8CE6095B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6D31D-D8EB-4441-A61E-8CEF3C16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B3BB3-E68E-41F5-92C6-0DE784E7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1" name="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804960" y="347760"/>
            <a:ext cx="6660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4960" y="574560"/>
            <a:ext cx="6660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B5D1-C6E5-4DA1-B53F-DBB69B8D9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62120" y="250920"/>
            <a:ext cx="8380440" cy="127296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04960" y="73080"/>
            <a:ext cx="66600" cy="11124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804960" y="303120"/>
            <a:ext cx="66600" cy="10980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04960" y="530280"/>
            <a:ext cx="66600" cy="10944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685800" y="6477120"/>
            <a:ext cx="3505320" cy="37944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" name="" descr=""/>
          <p:cNvPicPr/>
          <p:nvPr/>
        </p:nvPicPr>
        <p:blipFill>
          <a:blip r:embed="rId2"/>
          <a:srcRect l="1886" t="18999" r="84769" b="76291"/>
          <a:stretch/>
        </p:blipFill>
        <p:spPr>
          <a:xfrm>
            <a:off x="698400" y="6540480"/>
            <a:ext cx="1371600" cy="304920"/>
          </a:xfrm>
          <a:prstGeom prst="rect">
            <a:avLst/>
          </a:prstGeom>
          <a:ln w="0">
            <a:noFill/>
          </a:ln>
        </p:spPr>
      </p:pic>
      <p:sp>
        <p:nvSpPr>
          <p:cNvPr id="20" name=""/>
          <p:cNvSpPr/>
          <p:nvPr/>
        </p:nvSpPr>
        <p:spPr>
          <a:xfrm>
            <a:off x="2133720" y="6616800"/>
            <a:ext cx="2286000" cy="241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asesoriasonline.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9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1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1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9943-F5E8-4037-8373-6E44052B8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71600" y="2527200"/>
            <a:ext cx="6934320" cy="5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e61a"/>
                </a:solidFill>
                <a:latin typeface="Bookman Old Style"/>
              </a:rPr>
              <a:t>APRENDA A LEER UN BAL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6477120"/>
            <a:ext cx="3505320" cy="37944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1886" t="18999" r="84769" b="76291"/>
          <a:stretch/>
        </p:blipFill>
        <p:spPr>
          <a:xfrm>
            <a:off x="698400" y="6540480"/>
            <a:ext cx="1371600" cy="304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209680" y="6616800"/>
            <a:ext cx="2210040" cy="241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asesoriasonline.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6248520"/>
            <a:ext cx="6019920" cy="228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6248520"/>
            <a:ext cx="228600" cy="380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742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QUÉ ES EL ENDEUDAMIENT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on los fondos que terceros han puesto en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mpresa y que financian parte del total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ctivos que la empresa necesita para oper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normal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Aprenda a leer un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743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CÓMO SE MIDE EL ENDEUDAMIENT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ividiendo el total de pasivos por el patrimoni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a empresa e indica las veces que terceros h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locado el equivalente del capital de l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ndeudamiento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Pasivos To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Aprenda a leer un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04560" y="174636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POR QUÉ EL ENDEUDAMIEN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VARÍA DE UNA INDUSTRIA A OTRA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Porque se supone que mientras más líquidos sean los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mayor es la capacidad de pago (los bancos pueden endeudar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por ley hasta 20 veces su capital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En el otro extremo, actividades mineras tienen endeudamien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cercano a 1 pues muchos de sus activos son minerales cuya re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dimensión se descono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El endeudamiento depende de la percepción que tienen l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creedores del valor de los activos y la capacidad de la empre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de generar fon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Aprenda a leer un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73664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EJEMPLO DE ENDEUD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Pasivos Circulante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Pasivos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éstamo  1   $ 300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  Préstamo 2    $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oveedores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$ 200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       Provisiones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$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otal              $ 500             Total             $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asivos Totales       $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atrimonio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$    800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NDEUDAMIENTO :  $ 1200 / $ 800 = 1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Aprenda a leer un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742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QUÉ ES LA RENTABILIDAD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s el resultado de la empresa expresado co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un porcentaje d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as Ven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l 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Aprenda a leer un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1742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EJEMPLO DE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Resultado del Período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$    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Ventas del Período      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$ 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atrimonio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$    800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otal de Activo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   $ 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Bookman Old Style"/>
              </a:rPr>
              <a:t>   </a:t>
            </a: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Rentabilida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   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Sobre Las Ventas: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$ 300 / $ 3.000  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=  1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   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Sobre El Patrimonio: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$ 300 / $ 800 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=  38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   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Sobre Los Activos: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$ 300 / $ 2.000  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=  15 %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Aprenda a leer un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440" y="173664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1e61a"/>
                </a:solidFill>
                <a:latin typeface="Bookman Old Style"/>
              </a:rPr>
              <a:t>¿ DE QUÉ SE COMPONE EL RESULTAD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El Resultado se compone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s-ES_tradnl" sz="2800" spc="-1" strike="noStrike">
                <a:solidFill>
                  <a:srgbClr val="ffffff"/>
                </a:solidFill>
                <a:latin typeface="Bookman Old Style"/>
              </a:rPr>
              <a:t>El Resultado Oper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s-ES_tradnl" sz="2800" spc="-1" strike="noStrike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Bookman Old Style"/>
              </a:rPr>
              <a:t>El Resultado No Oper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Aprenda a leer un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920" y="17427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EL RESULTADO OPER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rresponde a la diferencia entre las ventas menos el costo directo de efectuar esas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ven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Ventas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$ 3.000  - 10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osto Producción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$ 1.500  -   5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osto Adm. y Vtas.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$    600  -   2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Resultado Operacional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$    900  -   3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Aprenda a leer un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17431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EL RESULTADO NO OPER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on aquellos ingresos y egresos que se incorpor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l resultado de la empresa pero que no correspon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 costos de producción, administración o ven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Gastos Financieros </a:t>
            </a: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-</a:t>
            </a:r>
            <a:r>
              <a:rPr b="1" lang="en-US" sz="2800" spc="-1" strike="noStrike">
                <a:solidFill>
                  <a:srgbClr val="ff9933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Egre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Depreciación </a:t>
            </a: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-</a:t>
            </a:r>
            <a:r>
              <a:rPr b="1" lang="en-US" sz="2800" spc="-1" strike="noStrike">
                <a:solidFill>
                  <a:srgbClr val="ff9933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Egre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Corrección Monetaria </a:t>
            </a: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-</a:t>
            </a:r>
            <a:r>
              <a:rPr b="1" lang="en-US" sz="2800" spc="-1" strike="noStrike">
                <a:solidFill>
                  <a:srgbClr val="ff9933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uede Ser Ingreso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o Egre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Aprenda a leer un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533160" y="173340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EJEMPLO DE RESUL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Ventas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$ 3.000  - 10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Costo Producción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$ 1.500  -   5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Costo Adm y Vtas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$    600  -   2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e61a"/>
                </a:solidFill>
                <a:latin typeface="Bookman Old Style"/>
              </a:rPr>
              <a:t>RESULTADO OPERAC.</a:t>
            </a:r>
            <a:r>
              <a:rPr b="1" lang="en-US" sz="20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b1e61a"/>
                </a:solidFill>
                <a:latin typeface="Bookman Old Style"/>
              </a:rPr>
              <a:t>$    900  -   3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Gastos Financieros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$   300   -    10 %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Depreciación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$   200   -      7 %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Corrección Monetaria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$   100   -      3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e61a"/>
                </a:solidFill>
                <a:latin typeface="Bookman Old Style"/>
              </a:rPr>
              <a:t>RESULTADO NO OPERACIONAL</a:t>
            </a:r>
            <a:r>
              <a:rPr b="1" lang="en-US" sz="2000" spc="-1" strike="noStrike">
                <a:solidFill>
                  <a:srgbClr val="ff9933"/>
                </a:solidFill>
                <a:latin typeface="Bookman Old Style"/>
              </a:rPr>
              <a:t>  </a:t>
            </a:r>
            <a:r>
              <a:rPr b="1" lang="en-US" sz="2000" spc="-1" strike="noStrike">
                <a:solidFill>
                  <a:srgbClr val="ff9933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ff9933"/>
                </a:solidFill>
                <a:latin typeface="Bookman Old Style"/>
              </a:rPr>
              <a:t>$  600    -    2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RESULTADO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$ 300  -   1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Aprenda a leer un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761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1e61a"/>
                </a:solidFill>
                <a:latin typeface="Bookman Old Style"/>
              </a:rPr>
              <a:t>¿ QUÉ PODEMOS LEER EN UN BALANCE ?</a:t>
            </a:r>
            <a:r>
              <a:rPr b="1" lang="es-ES_tradnl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La Liquide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El Ciclo de Nego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El Endeud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La Rentabilidad de l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Aprenda a leer un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838080"/>
            <a:ext cx="91440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cc33"/>
                </a:solidFill>
                <a:latin typeface="Bookman Old Style"/>
              </a:rPr>
              <a:t>   </a:t>
            </a:r>
            <a:r>
              <a:rPr b="1" lang="es-ES_tradnl" sz="4000" spc="-1" strike="noStrike">
                <a:solidFill>
                  <a:srgbClr val="b1e61a"/>
                </a:solidFill>
                <a:latin typeface="Bookman Old Style"/>
              </a:rPr>
              <a:t>FINANZAS EMPRESARI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ookman Old Style"/>
              </a:rPr>
              <a:t>es un aporte 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man Old Style"/>
              </a:rPr>
              <a:t>al desarrollo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man Old Style"/>
              </a:rPr>
              <a:t>la mediana y pequeña empresa de Chile</a:t>
            </a:r>
            <a:r>
              <a:rPr b="1" lang="es-ES_tradnl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1886" t="18999" r="84769" b="76291"/>
          <a:stretch/>
        </p:blipFill>
        <p:spPr>
          <a:xfrm>
            <a:off x="3200400" y="3809880"/>
            <a:ext cx="2590920" cy="574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895480" y="2895480"/>
            <a:ext cx="3200400" cy="5335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ww.asesoriasonline.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6240" y="1774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QUÉ ES LA LIQUIDEZ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s la capacidad de la empresa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ara cumplir s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mpromisos de corto plazo con sus activos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rto pla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Aprenda a leer un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61760" y="174600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CÓMO SE MIDE LA LIQUIDEZ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ividiendo los activos de corto plazo por l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asivos de corto plazo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Activos de Corto Plazo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asivos de Cort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apital de Trabaj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ctivos de Cort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e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asivos de Cort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Aprenda a leer un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3760" y="1743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POR QUÉ LA LIQUIDEZ DEBE SER SUPERIOR A 1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orque los activos no siempre valen lo que dic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er (cuentas incobrables e inventarios obsoleto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n tanto que los pasivos casi siempre hay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ancelarlos en un 10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Aprenda a leer un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160" y="174636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EJEMPLO DE LIQUID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Activos Circulante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aja                $ 100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  Préstamo 1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$ 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ta Clientes    $ 300            Proveedore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$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xistencias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$ 400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  Total            $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otal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        $ 800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LIQUIDEZ :  $ 800 / $ 500 = 1,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APITAL DE TRABAJO :  $ 800 - $ 500 = $ 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Aprenda a leer un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0520" y="174600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EL CICLO DE NEGOCI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on los plazos comerciales que se requieren para el funcionamiento normal del nego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rédito cliente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Necesidad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Inventario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Necesidad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rédito de proveedores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uente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1e61a"/>
                </a:solidFill>
                <a:latin typeface="Bookman Old Style"/>
              </a:rPr>
              <a:t>Determina el capital de trabajo bás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1e61a"/>
                </a:solidFill>
                <a:latin typeface="Bookman Old Style"/>
              </a:rPr>
              <a:t>   </a:t>
            </a:r>
            <a:r>
              <a:rPr b="1" lang="en-US" sz="2600" spc="-1" strike="noStrike">
                <a:solidFill>
                  <a:srgbClr val="b1e61a"/>
                </a:solidFill>
                <a:latin typeface="Bookman Old Style"/>
              </a:rPr>
              <a:t>necesario para desarrollar el negoci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Aprenda a leer un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5145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EJEMPLO DE CICLO DE NEGO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rédito a Cliente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90 días de Ven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eríodo de Inventario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60 días del Co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rédito de Proveedore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75 días del Co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Venta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$ 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sto de Producción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$ 1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Aprenda a leer un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504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EJEMPLO DE CICLO DE NEGO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uenta Crédito Cliente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$   7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($ 3.000 x 90 / 36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uenta Inventario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$   2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($ 1.500 x 60 / 36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uenta Proveedore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$   3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($ 1.500 x 75 / 36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NECESIDAD DE FONDOS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$   6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Aprenda a leer un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8T22:55:52Z</dcterms:created>
  <dc:creator>Ricardo Almazán</dc:creator>
  <dc:description/>
  <dc:language>en-US</dc:language>
  <cp:lastModifiedBy>Oscar Vaquero</cp:lastModifiedBy>
  <dcterms:modified xsi:type="dcterms:W3CDTF">2001-07-20T15:28:24Z</dcterms:modified>
  <cp:revision>50</cp:revision>
  <dc:subject/>
  <dc:title>WWW.ASESORIASONLINE.CL</dc:title>
</cp:coreProperties>
</file>